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1B32-94CB-407A-A720-3494B378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375B-0A4C-4D58-A1C9-8430F496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7EE4-50A8-4FA3-9ED3-9110EA91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E1FE-C4F4-486E-90F8-A8F92140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FA8F-DA77-4A58-9674-F25DC9CF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F675-76D7-4AF9-8AFD-4786376E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27EF-24E9-46C8-B987-E23105CB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C2D8-11D5-42B9-A8FA-00FF44CB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7420-6BE1-4B52-9D41-A4EDB392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66C0-14DB-488E-BD8D-613E6C40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2CFE-8641-4E5D-8BEF-DEC9ABF6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585F-32D4-442A-B335-73DCB7EA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C5AC-5E36-4498-A098-D486C39CE17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Arial"/>
              </a:rPr>
              <a:t>Safety and Lab Equipment</a:t>
            </a:r>
            <a:br>
              <a:rPr sz="4400"/>
            </a:br>
            <a:r>
              <a:rPr b="0" lang="en-CA" sz="4400" spc="-1" strike="noStrike">
                <a:solidFill>
                  <a:srgbClr val="ffff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539640" y="83664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5. This piece of lab or safety equipment is a(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95280" y="2349360"/>
            <a:ext cx="46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eaker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Ring Clamp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est tub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ce cream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3678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539640" y="83664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5. This piece of lab or safety equipment is a(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95280" y="2349360"/>
            <a:ext cx="46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eaker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Ring Clamp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est tub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ce cream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3678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468360" y="47628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6. This piece of lab or safety equipment is a(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95280" y="1700280"/>
            <a:ext cx="525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est tube 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est tube clamp/h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eaker h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Graduated cyl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3924360" y="3860640"/>
            <a:ext cx="496872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68360" y="47628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6. This piece of lab or safety equipment is a(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95280" y="1700280"/>
            <a:ext cx="525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Test tube 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est tube clamp/h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eaker h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Graduated cyl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3924360" y="3860640"/>
            <a:ext cx="496872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539640" y="836640"/>
            <a:ext cx="49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7. This safety symbo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579600" y="2152800"/>
            <a:ext cx="467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Dangerously reactive mate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Oxidizing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orrosiv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iohazardous infectious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5435640" y="1916280"/>
            <a:ext cx="28494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539640" y="836640"/>
            <a:ext cx="49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7. This safety symbo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79600" y="2152800"/>
            <a:ext cx="467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Dangerously reactive mate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Oxidizing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orrosiv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iohazardous infectious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5435640" y="1916280"/>
            <a:ext cx="28494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68360" y="47628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8. This piece of lab or safety equipment is a(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95280" y="1700280"/>
            <a:ext cx="46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pot 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tirring r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ye Dro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coop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4932360" y="1628640"/>
            <a:ext cx="3510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468360" y="47628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8. This piece of lab or safety equipment is a(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95280" y="1700280"/>
            <a:ext cx="46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pot 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tirring r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ye Dro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Scoop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4932360" y="1628640"/>
            <a:ext cx="3510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539640" y="83664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9. This piece of lab or safety equipment is a(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611280" y="2924280"/>
            <a:ext cx="46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Graduated Cyl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est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rlenmeyer Fl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381636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9640" y="83664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9. This piece of lab or safety equipment is a(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11280" y="2924280"/>
            <a:ext cx="46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Graduated Cyl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est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rlenmeyer Fl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381636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539640" y="83664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1. This piece of lab or safety equipment is a(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611280" y="2924280"/>
            <a:ext cx="46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Graduated Cyl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est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rlenmeyer Fl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539640" y="836640"/>
            <a:ext cx="49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10. This safety symbo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79600" y="2152800"/>
            <a:ext cx="4679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Dangerously reactive mate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Oxidizing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orrosiv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oisonous materials causing other toxic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5292720" y="1773360"/>
            <a:ext cx="30351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539640" y="836640"/>
            <a:ext cx="49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10. This safety symbo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579600" y="2152800"/>
            <a:ext cx="4679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Dangerously reactive mate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Oxidizing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orrosiv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oisonous materials causing other toxic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5292720" y="1773360"/>
            <a:ext cx="30351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468360" y="47628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11. This piece of lab or safety equipment is a(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95280" y="1989000"/>
            <a:ext cx="46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Fume 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afety Gog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afety Sh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Fire Blan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0323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468360" y="47628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11. This piece of lab or safety equipment is a(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95280" y="1989000"/>
            <a:ext cx="46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Fume 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Safety Gog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afety Sh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Fire Blan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0323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468360" y="47628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12. This piece of lab or safety equipment is a(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95280" y="1700280"/>
            <a:ext cx="46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Fire extinguis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est tube cl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eaker to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rlenmeyer Fl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62197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468360" y="47628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12. This piece of lab or safety equipment is a(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95280" y="1700280"/>
            <a:ext cx="46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Fire extinguis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est tube cl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Beaker to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rlenmeyer Fl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62197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539640" y="83664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1. This piece of lab or safety equipment is a(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611280" y="2924280"/>
            <a:ext cx="46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Graduated Cyl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est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B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rlenmeyer Fl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39640" y="836640"/>
            <a:ext cx="49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2. This safety symbo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79600" y="2152800"/>
            <a:ext cx="4679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oisonous material causing immediate and toxic eff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ompressed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orrosiv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iohazardous infectious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5219640" y="1916280"/>
            <a:ext cx="299556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539640" y="836640"/>
            <a:ext cx="49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2. This safety symbo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579600" y="2152800"/>
            <a:ext cx="4679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oisonous material causing immediate and toxic eff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ompressed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Corrosiv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iohazardous infectious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5219640" y="1916280"/>
            <a:ext cx="299556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9640" y="83664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3. This piece of lab or safety equipment is a(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79280" y="2852640"/>
            <a:ext cx="46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rlenmeyer Fl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hemical Spill K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est tube was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ye wash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4105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539640" y="83664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3. This piece of lab or safety equipment is a(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79280" y="2852640"/>
            <a:ext cx="46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rlenmeyer Fl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hemical Spill K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est tube was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Eye wash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4105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539640" y="836640"/>
            <a:ext cx="49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4. This safety symbo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579600" y="2152800"/>
            <a:ext cx="4679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oisonous material causing immediate and toxic eff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ompressed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orrosiv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iohazardous infectious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5364000" y="1844640"/>
            <a:ext cx="30672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539640" y="836640"/>
            <a:ext cx="49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4. This safety symbo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579600" y="2152800"/>
            <a:ext cx="4679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oisonous material causing immediate and toxic eff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ompressed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orrosiv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Biohazardous infectious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5364000" y="1844640"/>
            <a:ext cx="30672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23:26:40Z</dcterms:created>
  <dc:creator>Brian</dc:creator>
  <dc:description/>
  <dc:language>en-US</dc:language>
  <cp:lastModifiedBy>Lim, Brian</cp:lastModifiedBy>
  <dcterms:modified xsi:type="dcterms:W3CDTF">2016-02-24T17:09:07Z</dcterms:modified>
  <cp:revision>17</cp:revision>
  <dc:subject/>
  <dc:title>Safety and Lab Equipment Questions</dc:title>
</cp:coreProperties>
</file>